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63B6-1DA9-4A68-A74C-2F304A5C1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04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8C1A-E1E5-47B6-A041-48F9BA9E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04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04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0614-CF9B-4CE1-A531-CDAEAD45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04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04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04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F100-F607-4A1D-8A6D-E0E8167A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75BE-CC68-45DD-9E95-76A34553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ADFB-737C-4BBD-86C6-D6E4A49F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3A75-EBD6-4F75-AE59-AFD18D58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6627-7172-4CA4-9E54-3E3BFE73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5F32-6199-4DFA-85C1-B19A228D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04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2D95-CDC9-42D2-AA1C-EB51A1AB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04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F0D8-AEDF-4557-B254-3E1060BE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04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D48B-D150-478E-BD50-ABA52574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752480" y="-393840"/>
            <a:ext cx="7925040" cy="7251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A9E0-E996-40E0-B7FA-9B6751FC5729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6732720" y="6021360"/>
            <a:ext cx="18399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7240" y="549360"/>
            <a:ext cx="84567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000" spc="-1" strike="noStrike">
                <a:solidFill>
                  <a:srgbClr val="000000"/>
                </a:solidFill>
                <a:latin typeface="Times New Roman"/>
              </a:rPr>
              <a:t>Tecnologia da Informação para a Gestão do Conheciment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48000" y="3213000"/>
            <a:ext cx="268920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18900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Verdana"/>
              </a:rPr>
              <a:t>Objetivos da 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1125360"/>
            <a:ext cx="9221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TI deve ser usada para facilitar a troca de experiências e o trabalho em conjunto e também para mapear e acompanhar a participação de cada 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desenvolvimento de sistemas de suporte ao conhecimento deve estar claramente vinculado aos resultados globais das áreas de negóc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 ferramentas tecnológicas de suporte ao conhecimento devem ser flexíveis e fáceis de usar, dando a maior autonomia possível aos membros das comunidades de trabalho, com um mínimo de interferência da área de T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18900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Tecnologias úteis para o suporte à Gestão do Conheciment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557360"/>
            <a:ext cx="92217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ideoconferênci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Groupwa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inéis eletrônicos e grupos de discuss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ases de dados on-line, CD-ROMs, Internet, intranets, sistemas especialist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gentes de pesquisa inteligentes,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data warehouse / data min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renciamento eletrônico de documentos.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18900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Verdana"/>
              </a:rPr>
              <a:t>Conclus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341360"/>
            <a:ext cx="922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A tecnologia da informação e da comunicação deve ser utilizada para facilitar as atividades essenciais para a evolução da empresa, tais como a solução de problemas e a inovação. Isso significa fornecer os meios para que as pessoas possam representar problemas, desenvolver protótipos e criar soluçõ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Verdana"/>
              </a:rPr>
              <a:t>Exercícios</a:t>
            </a: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928980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O que é Gestão do Conhecimento 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O que é Conhecimento Coletiv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 Qual o papel da TI na Gestão do Conhecimen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4. Quais são as tecnologias úteis para a Gestão do Conhecimen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Verdana"/>
              </a:rPr>
              <a:t>Conceito</a:t>
            </a: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86392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As tecnologias úteis para a Gestão do Conhecimento são aquelas que ajudam a prevenir a fragmentação das informações e permitem criar redes globais para o compartilhamento do conhecimento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Verdana"/>
              </a:rPr>
              <a:t>Gestão do Conhecimento é uma área emergente</a:t>
            </a: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90741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Gestão do Conhecimento é vista como "uma coleção de processos que governa a criação, disseminação e utilização do conhecimento para atingir plenamente os objetivos da organização"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Verdana"/>
              </a:rPr>
              <a:t>Gestão do Conhecimento é uma área emergente</a:t>
            </a: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90741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GC é um campo novo na confluência entre teoria da organização, estratégia gerencial e sistemas de informação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 GC lida principalmente com aqueles aspectos críticos para a adaptação e sobrevivência da empresa, diante de um ambiente de mudança crescente e descontínua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Verdana"/>
              </a:rPr>
              <a:t>Conhecimento Coletivo</a:t>
            </a: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90741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Para as empresas mais inovadoras, o conhecimento coletivo já é reconhecido como uma competência fundamental para a performance organizacional e se baseia nas habilidades e experiências individuais em relação ao trabalho realizado.</a:t>
            </a: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Verdana"/>
              </a:rPr>
              <a:t>Áreas críticas do Conhecimento</a:t>
            </a:r>
            <a:endParaRPr b="0" i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9074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referências e necessidades dos clientes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esempenho da companhia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oncorrência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plicações de tecnologia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uso da informação existent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setores e nichos de mercado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regulamentações externas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189000"/>
            <a:ext cx="83534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Verdana"/>
              </a:rPr>
              <a:t>Aspectos principais da Gestão do Conhecime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628640"/>
            <a:ext cx="9221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partilhar o conhecimento internamen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tualizar o conhecimen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cessar e aplicar o conhecimento para algum benefício    organizacion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ncontrar o conhecimento internamen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dquirir conhecimento externamen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utilizar conhecimen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riar novos conheciment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partilhar o conhecimento com a comunidade externa à empresa.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1890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Verdana"/>
              </a:rPr>
              <a:t>O papel da Tecnologia da Inform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628640"/>
            <a:ext cx="9221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Identificar, encontrar e/ou desenvolver e ainda implementar tecnologias e sistemas de informação que apóiem a comunicação empresarial e a troca de idéias e experiências, que facilitem e incentivem as pessoas a se unir, a participar, a tomar parte em grupos, e a se renovar em redes informa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189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Verdana"/>
              </a:rPr>
              <a:t>Itens fundamentais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268280"/>
            <a:ext cx="92217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a nova arquitetura de informação que inclua novas linguagens, categorias e metáforas para identificar e alavancar perfis e competência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a nova arquitetura tecnológica que seja mais social, aberta, flexível, que respeite e atenda às necessidades individuais e que dê poder aos usuário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a nova arquitetura de aplicações orientada mais à solução de problemas e à representação do conhecimento, do que somente voltada a transações e informaçõ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1T12:39:55Z</dcterms:created>
  <dc:creator>Carol</dc:creator>
  <dc:description/>
  <dc:language>en-US</dc:language>
  <cp:lastModifiedBy>PNETO</cp:lastModifiedBy>
  <dcterms:modified xsi:type="dcterms:W3CDTF">2007-01-09T17:54:15Z</dcterms:modified>
  <cp:revision>184</cp:revision>
  <dc:subject/>
  <dc:title>Apresentação do PowerPoint</dc:title>
</cp:coreProperties>
</file>